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F50D-7756-43A3-BEE6-AFBF1FD136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И КЛАССИФИКАЦИЯ ЦЕННЫХ БУМА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ые и долгов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3E14-62BC-4D58-AD25-134C7B147B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ая бумаг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934-F771-4F03-B187-8E09A18801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КЛАССИФИКАЦИИ ЦЕННЫХ БУМ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знаку возвратности средств инвесто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необходимости регистрации выпуска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форме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5BE0-A50A-40C7-BF6B-FA41B28A45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признаку возвратности сред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говые ценные бумаги (облигация, векс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левые ценные бумаги (а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12B5-14E7-4D6A-94CB-A6A5B4DBCF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важнейшим эмите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23B9-F76F-44BE-A47B-6DA4536E1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МЕХАНИЗМУ РЕАЛИЗАЦИИ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A8FF-7F7D-4EE5-8E4A-E71C87D51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форме выпу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ая (наличная) форма выпуска на бумажном носит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документарная (безналичная) форма выпуска в виде электронной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A807-58D6-4748-A4DD-4F3631E36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АССИФИКАЦИЯ ЦЕННЫХ БУМАГ ПО НЕОБХОДИМОСТИ РЕГИСТРАЦИИ ВЫПУ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миссионные ценные бумаги (акции, облиг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эмиссионные ценные бумаги (вексель, коноса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58D-E70A-4D91-A849-E721CD82CE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8CD-A8A5-410C-BF66-763FB186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F89-269E-488F-A3AB-B1F60FE7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3D1-2625-4FFF-84A0-D2E9BC7A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A6A-E6C8-4086-B82D-B5742970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0DB-85B3-4C03-AB82-7ED30C0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B63-5DEB-4735-A2AD-53AD6D55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40E-F2E4-46D8-B0AC-6A8D6184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43E-F98D-43EC-ACC7-54D9823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EC7-E4EC-4F54-8278-C799212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021-E573-44F9-8D76-0506E17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A50-B63C-452A-8FE9-2C7B62CA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C72-2AB3-4FDC-9969-3B87EB85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2811-2C0A-4AFC-B3A9-395A17654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И КЛАССИФИКАЦИЯ ЦЕННЫХ БУМ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ценн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евые и долговые ценные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2233440"/>
          </a:xfrm>
          <a:prstGeom prst="rect">
            <a:avLst/>
          </a:prstGeom>
          <a:solidFill>
            <a:srgbClr val="cfd0ce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окумент, удостоверяющий с соблюдением установленной формы и обязательных реквизитов имущественные права, осуществление или передача которых возможны только при его предъявлении (Гражданский кодекс РФ, ст.1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30400" y="825480"/>
            <a:ext cx="71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НЯТИЕ ЦЕННОЙ БУМАГ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ЛАССИФИКАЦИИ ЦЕННЫХ БУМ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изнаку возвратности средств инвес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необходимости регистрации выпуска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орме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ажнейшим эмите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признаку возвратности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вые ценные бумаги (облигация, векс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евые ценные бумаги (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3068640"/>
          <a:ext cx="3600720" cy="221292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</a:tblGrid>
              <a:tr h="99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372360" y="3141720"/>
          <a:ext cx="1512720" cy="647640"/>
        </p:xfrm>
        <a:graphic>
          <a:graphicData uri="http://schemas.openxmlformats.org/drawingml/2006/table">
            <a:tbl>
              <a:tblPr/>
              <a:tblGrid>
                <a:gridCol w="1512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372360" y="4365720"/>
          <a:ext cx="1584360" cy="79200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г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с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6"/>
          <p:cNvSpPr/>
          <p:nvPr/>
        </p:nvSpPr>
        <p:spPr>
          <a:xfrm>
            <a:off x="4500720" y="3357720"/>
            <a:ext cx="1871640" cy="287280"/>
          </a:xfrm>
          <a:prstGeom prst="leftArrow">
            <a:avLst>
              <a:gd name="adj1" fmla="val 50000"/>
              <a:gd name="adj2" fmla="val 162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4500720" y="4581360"/>
            <a:ext cx="1871640" cy="287640"/>
          </a:xfrm>
          <a:prstGeom prst="leftArrow">
            <a:avLst>
              <a:gd name="adj1" fmla="val 50000"/>
              <a:gd name="adj2" fmla="val 1626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важнейшим эмит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989000"/>
          <a:ext cx="8064360" cy="4017960"/>
        </p:xfrm>
        <a:graphic>
          <a:graphicData uri="http://schemas.openxmlformats.org/drawingml/2006/table">
            <a:tbl>
              <a:tblPr/>
              <a:tblGrid>
                <a:gridCol w="3257640"/>
                <a:gridCol w="4806720"/>
              </a:tblGrid>
              <a:tr h="632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693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федеральное прав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федер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субъекты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ые бума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местные органы власти в составе субъекто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поративн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 – пред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ые ценные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МЕХАНИЗМУ РЕАЛИЗАЦИИ ПР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9280" y="1557360"/>
          <a:ext cx="7704000" cy="5006880"/>
        </p:xfrm>
        <a:graphic>
          <a:graphicData uri="http://schemas.openxmlformats.org/drawingml/2006/table">
            <a:tbl>
              <a:tblPr/>
              <a:tblGrid>
                <a:gridCol w="2773080"/>
                <a:gridCol w="4930920"/>
              </a:tblGrid>
              <a:tr h="76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ценной бума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0c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ъявитель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та обр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остое вручение ценной бума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и без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е веден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утем внесения изменений в ре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рная форма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реес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а прав – при помощи индосса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лассификация ценных бумаг по форме выпу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6985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ументарная (наличная) форма выпуска на бумажном носит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документарная (безналичная) форма выпуска в виде электронной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ЛАССИФИКАЦИЯ ЦЕННЫХ БУМАГ ПО НЕОБХОДИМОСТИ РЕГИСТРАЦИИ ВЫ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0581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иссионные ценные бумаги (акции, облиг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эмиссионные ценные бумаги (вексель, коноса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28:04Z</dcterms:created>
  <dc:creator>User</dc:creator>
  <dc:description/>
  <dc:language>en-US</dc:language>
  <cp:lastModifiedBy>LEGION</cp:lastModifiedBy>
  <dcterms:modified xsi:type="dcterms:W3CDTF">2014-11-10T10:01:22Z</dcterms:modified>
  <cp:revision>6</cp:revision>
  <dc:subject/>
  <dc:title>Тема 2. ВИДЫ И КЛАССИФИКАЦИЯ ЦЕННЫХ БУМАГ</dc:title>
</cp:coreProperties>
</file>